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03EF77-01D6-4D16-9693-AA1E73D78C29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E2E050-D7E4-4A23-BC80-DB49E5BCB5B9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A31-71BB-4F41-8BD9-B1598424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853-966D-4DA0-B7C4-8D1C5678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2A8-510A-4628-858F-34EF3F35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E78-11DF-4188-B18E-F9BEFF04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945-B820-487F-ACA0-A62C2B92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B702-5356-4B83-B5A3-6B1CE53F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D517-A95A-4B2E-89C8-2AAF44AA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ED7B-CD9E-4989-9EA1-FA62AD9E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67D-5035-4DB4-A0FC-9FC2A18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2C5D-0B97-47DF-9FA3-741C537D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B72E-CEF2-4C33-AF2A-04887EBE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AFD-DF39-4366-8C34-4A61FE6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5222-4D0F-4617-AF4D-C548495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AE9E-8B13-4D54-90EF-D3F2EF24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1D28-0E5A-4013-983E-C51EEBA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2467-BF13-45CC-BCA3-EDCEFBBD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F572-46D7-48A3-824C-6572D6F9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6BA-4D0F-45BA-97A3-5B7394D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DB7-DBAC-458E-BF26-D6FD1458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EA2-2F70-4549-8BA0-A5233484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F88-9BD9-457E-A056-90D4509D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0AD-3BC6-4EB4-B35B-6FADEA2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486-853C-47DD-A38F-A9781AC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F58-E5FA-4A6B-8F40-EE0283F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2939-C60D-4536-844C-323D6C406C30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03280" y="1052640"/>
            <a:ext cx="75614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lackducksoftware.com/android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ource.android.com/porting/power_management.html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embedded-linux-conference/" TargetMode="External"/><Relationship Id="rId2" Type="http://schemas.openxmlformats.org/officeDocument/2006/relationships/hyperlink" Target="http://elinux.org/ELC_2011_Presentation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android-builders-summit/" TargetMode="External"/><Relationship Id="rId2" Type="http://schemas.openxmlformats.org/officeDocument/2006/relationships/hyperlink" Target="http://events.linuxfoundation.org/events/android-builders-summit/slides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803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bedded Linux Conference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roid Builders Summit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28680" y="388620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ナソニック株式会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加藤 慎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Snapshot Booting on Embedded Linu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Kang Dongwook (ETR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ワップテーブル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 Im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へのリンクを作っておき，スワップの仕組みを使って，組込み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ートを実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使っていたメモリページを全て退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ブート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メモリをレストア、そしてジャン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使っ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読み込み時間を改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.82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2.98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napshot Boot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oot Load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時間が短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シー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の時間は延び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以上長くな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フリーのメモリ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ページ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十分足りる場合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半分以上フリーページが必要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サイズが十分足りる場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スナップショット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M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越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Linaro : A Year of Chan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David A Rusling (Linaro, CT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T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としての発表だが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el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年で思ったこ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搭載物は“典型的な”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以外に移ってき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多様性は歓迎するが，フラグメンテーション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欠乏は非効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ラボレーションが欠け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 Linux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向けに活動しているエンジニアが十分で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組込み向け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違いができてしまうの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のタイムラインが短く，また最新のオープンソースに基づいてい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が多岐にわた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部分が価値にな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立上げ，コアエンジニアは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使う上での共通な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問題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解決するべく，オープンに活動し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どのように運営されている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ンバーによって技術課題を挙げて，ワークグループを立上げ，解決してい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今は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フォーカス．今後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もフォーカス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ｖ７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umb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コ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inutil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Optimization for Cheap Flash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rnd Bergmann (IB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次の日に別テーマで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担当した人物．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メンバーでもあ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安い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最大限に活用するために，という題目だが，内容は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Wear Leveling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ガベッジコレクションについてのレクチャ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一般的な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Wear Leveling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ガベッジコレクション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リニアアクセス，ブロ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ッピング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RT-Preempt : What’s The State and Why There is No Road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Thomas Gleixner (linutroni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メンテナー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分野：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eal-Tim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現状について，と，今後の展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最新の安定版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6.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関して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inlin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入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ハイレゾタイマ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一般的な割り込みハンドラ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スペース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優先度継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レッド割り込みハンド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強制スレッド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rq/softi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トレース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残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mu gather (2.6.4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のメインライン化を目指している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erCUP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emory and page alloc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ft-interrupt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つメインラインに入る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7,2008,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それぞれ「リアルタイムのパッチはほとんど，年の終わりにはマージされるだろう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by Jonathan Corbet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といわれてきた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，まだマージされていな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実際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dhat,IBM,OSADL,Linutroni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テストに多大な努力もし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ぜロードマップがないの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パワーポイントは使わない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 Developer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インライン化の道を探しているところ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けど・・・ロードマップはある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と言って，「会場の地図」を見せた。会場爆笑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後に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有名なセリ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nd yeah, I still think the hard-RT people are mostly crazy (by Linux - 2010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High-Performance Computing using GP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Mike Anderson (The PRT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最近のトレン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プロセッサ：マルチコ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ビデオやゲーム：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3D,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トリーミン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マルチコアで性能向上するために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レッド並列処理がより重要にな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データの並列処理はより考えられたものにする必要があ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搭載のモバイルデバイスが当たり前にな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アプリケーションはすで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対応が考えられ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Integrating a Hardware Video Codec into Android Stagefright using OpenMAX 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Damian Hobson Garcia (Ig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agefright medi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ideo/Audi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録音の仕組み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してデフォルトで搭載され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モバイルプラットフォーム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920x1080@30fp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ビデオ再生をし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H.264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どう入れる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MAX I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う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Bellagio OpenMAX 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験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nesas SH (ARM Cortex-A8 @ 800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penMA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src/base/omx_base_*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ースは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ameworks/base/media/libstagefright/OMXCodec.cpp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み修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bstagefrighthw.s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uirk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ものも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How to Power Tune a Device Running on a Linux Kernel for Better Suspend Battery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Mark Gross (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内容は，省電力のレクチャ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ずは形式的に検討部分を分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重要でない部分は検討から除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pec Shee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ドライバのソースコード，データバス，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O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クロックとパワーコントロール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ットフォームの状態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ロー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まずはデバイス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毎に消費電力の初期値を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次に省電力パッチやデバドラ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等を実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省電力モードになっていないハードウェア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て，省電力モード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Runtime PM, Upstream I/O Device Pow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Magnus Damm (Runes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省電力はより重要になってきているが，伝統的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Power Management(PM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組込みシステムには完全には適さな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のユースケース向けに設計されている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からのコミュニティへのフィードバックが少ない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“ソース非公開”として扱う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ystem-Wid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使った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あるが，全く違うも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ステム全体の電力断が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起動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spend-to-Dis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り早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バイスにより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akeu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対応しているかがまちま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3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ハードが対応していても，ソフトが未対応，な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ソフトでの問題であれば，対応さ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PU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ループによ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アの電力を管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ickless CMT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/O Device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pm_runtime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関数を使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untime 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実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MeeGo B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lison Chaiken (Nok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について何でも語ろう，という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初めに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トピック説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年の予定：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つの比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ndroid for Servers 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John Stultz(IBM/Linar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でサーバにも活用できるものがあ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技術と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下記に分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バグフィックス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対応 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mem, GPIO Drivers, 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arly suspend, Wakelocks, 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エラーレポート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gger, Ram_console, A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anoid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フォーマンス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shmem, binder, LowMemoryKiller, Yaff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いつ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インラインにマージされるの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不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KM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議論が活発なも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サーバに役立ちそうな技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OM 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動く前にアプリ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ので，サーバにも使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仕組みは省電力に効果があ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のバグフィック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Hot Multi-OS Switch: How to run Ubuntu, ChromiumOS, Android at the Same Time on an Embedded De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Gregoire Gentil (Always Innovat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マルチディスプレイで実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利点：ひとつのキーボード・マウス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それぞれ操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ひとつのビデオコンテンツを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の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いろいろある．では，一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さまざまな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同時に動作させられない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eagleboar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使って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利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課題を解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課題：コ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選定，出力制御，入力制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では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hromium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独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トリビューションを起動し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プレイにそれぞれの画面を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ウスはそれぞれのディスプレイにカーソルがある状態で，マウスを動かすとそれぞれの画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トリビューショ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マウスカーソルが動き，キーボードをタイプすると全ての画面で入力されてしま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コマンドライン入力をしていたら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romeO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検索している，と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プレイ出力に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B-&gt;HDM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変換デバイス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出力・入力制御により，マウスカーソ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にして，カーソルをディスプレイ間を移動可能に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のうち一つだけに入力制御するように変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同じ再生コンテンツ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Moving Forward : Overcoming Compatibility Issues Bo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Yoshitake Kobayashi (Toshib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長期スパンのシステムでのハードウェア変更時の課題について議論する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長期スパンシステムにおいて，ハードウェアを新しくせざるをえなくなった場合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上位層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ライブラリ，アプリ，テストケース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担保をどうす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のドライバを古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バックポートす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上で動作する最新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使う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正解は，ハードウェアの特徴やユーザの要求次第であるが，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ersionU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できない」ユースケースを考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ハードウェアが変わった場合，何かし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変更は必要になる．その場合のシステム全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それまで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互換性はどう確認す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会場の意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のハードウェアを在庫として持っておくしか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自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定期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ていくべき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by IB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人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も担当した人物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意見に対しては他数人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そもそもそれができないシステムでどうするか？を話し合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だ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理想は分かるが，実際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きないシステムは存在する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の意見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mo/Showcas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oc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ビルドしたシステムでオーディオ再生，というデ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ベース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6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KernelSha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レース結果をビジュアル表示するツール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毎のプロセス占有状態などを表示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1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事前に参加者にアンケートをとっており，その結果を使ってのイベン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アンケー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011/04/06 4:44:45 +0900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Tim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からのメー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[Members] Help needed for ELC - please take 10-minut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壇上で，クイズ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人に聞きました，形式のクイ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全員参加で，いくつかのクイズの回答を事前に書き，その後に答えごとに得点を発表＆答え合わせ．総得点上位者から景品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Ge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-S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以下，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LWN.net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年間購読権や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本，な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Motorola Innovation Ri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Christy Wyatt (Motorol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ついて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商品と照らしながらこれまでの流れについて講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？ 下記がそろっている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ernet Ric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dustry Platf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シェ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pple i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越え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搭載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モデル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カ国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0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次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Xoo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ATRIX 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リリースされたとき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対応速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並び最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だったのが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で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に迫る勢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From the Alliance to the Evolution : The History and Future of Android Inno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Mark Charlebois (Qualco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H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メン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1.0 HTC -Oct 22,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Gz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Nexus One -Jan 5, 20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搭載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HTC Thunderbolt -Mar 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リリースサイク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upcak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7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onu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1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clai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.9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6.7 Mon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Chip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(7x00, 7x25, 7x27, 7x30/8x55, 8x50,8650A, 8x60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向けに用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今後につい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leph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eHRP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ｒ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ような技術に対応するフレームワー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I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tandb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対応するフレームワー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Nov 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ツールキッ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ポー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Pv6 for CDMA/EV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マルチメディア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CELP/EVRC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ce mem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PA (low power audio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M Radi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VG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720p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080p encode/de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マルチコアサポート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Trackbal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ないデバイスのサポート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 Core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GL in Gingerbread, Enhanced Webkit and V8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商用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bile Web 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2P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ケーション 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ugmented Realit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Dev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de Aurora Forum (CAF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ン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の貢献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通してやっ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v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には違いがあるが，共通部分が増えてい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ひとつはマルチコアによる恩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Open API Standards as a Foundation for Android Inno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Neil Trevett (NVIDI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ラフィ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これまでと今後の進化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 Family of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OLLADA, WebGL, WebC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, OpenGL/ES, EGL, OpenMAX/AL, OpenSL/ES, OpenV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オープンでロイヤリティフリ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いくつ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説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上で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プラグインなしで可能にす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dvanced Audi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A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マルチメディア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バイスプラットフォームによ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hrom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ym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など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GRA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宣伝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ゲームシーンで特に威力を発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Porting Android to New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へのポーティングと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にポーティングする際の，変更ポイントをダイジェストで紹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レクチャーの章立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ross-development tool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rting the Linux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veloping 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ett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plementing Android hardware li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stomizing the user-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ild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write to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seful Embedded Linux tr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的に中身のあ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yno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時間が限られている中で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技術要素を全て網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Beyond The Ph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rko Gargenta (Marakar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電話以外のデバイスを例に挙げながら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電話を超え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セットトップボックス，など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使っていろんなデバイスが考えられ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複合プリンタ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？ 下記のものがある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開発のフレームワーク，タッチスクリーン，グラフィックス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カスタムドライバ，カスタムライブラリ，アプリフレームワークのサポート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ew Hom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を補え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ベースの複合プリンタに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V Bo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ストリーム関係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オープンだから，自分でいろいろと追加すれば，いろんなデバイスに搭載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tle : AllJoyn and the New Era of Peer-to-Pee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eaker : Greg Burns (Qualcomm(Qul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開発した，新しいモバイ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eer-to-Pe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ベースにした近接関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ソフトウェア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で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デーモンが起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間通信はデーモンで直接接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のデーモンは，他のデバイスのデーモンと通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フォーメーションはアドホッ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ロトコ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s wire-protoco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もサポー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コンセプト提案のようなコマーシャル映像も流していた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人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様のデバイス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スマートフォン，タブレット，携帯ゲーム機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それぞれが繋がって仮想空間でゲームをしている．スマートフォンのユーザに着信があり数十分電話→終了後，また仮想空間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．というような映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ndroid Intern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中身を以下の分類で，それぞれレクチャ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roid Con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verall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ative User-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ctiv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tock AOSP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あくまで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ある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並の参加者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Title : Managing Android and the Complexity ins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 : Peter Vescuso (Black Duck Softwa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ライセンスの話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特にモバイル分野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はイノベーションをもたらしてい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あ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01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倍になっ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bile Phone (Android/iPhone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向け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でのコンプライアンスが検討事項になりつつあ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pylef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型のライセンスと，そうでないものを分けて考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ライセンスコンフリクトが起こりう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ach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のコンフリクトは解決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パテントの問題もあ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アプリケーションマーケットとライセン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unes Sto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アプリは頒布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マーケットではそのような制限は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変化の早いオープンソースで様々なライセンスをどう管理するか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異なるコンポーネン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Kerne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ラーは含まない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うち約半分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xter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種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相対するライセンス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非認証の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早い変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ヶ月でのメジャーバージョンアッ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レーニング・ツール・プロセスを使って管理するのが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lack Duc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tePap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を掲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blackducksoftware.com/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Using the Debian Package Manager to Assemble Android-Based Mobile Phone Software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gnus Back (Sony Ericss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パッケージ管理システムを用いて，ビルドシステムは一つにしてコンフィグの動的設定で，対象顧客用のソフトウェアをビルドする仕組み，につい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これま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ony Ericso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50~2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顧客に携帯を出しているが，顧客によりスペック・詳細要件があり，古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ソフトウェアでは，それぞ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コンフィグで解決してい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毎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＝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ごと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のビルド時間＝ビルド時間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ヶ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携帯を出すために，顧客それぞれのビルドシステムが必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それぞれのプラットフォームに紐付け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開発者にとっ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-P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大きすぎ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ebuil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コンポーネント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良い方法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理想としては，ビルドシステムは一つにして，コンフィグを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動的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設定するだけで，対象顧客用のソフトウェアをビルドするような仕組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管理システムを用いて，実現できない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を異なるビルドシステム間のインタフェースファイル結果のプロトコルに使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2480" y="1196640"/>
            <a:ext cx="8507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Title : Trying to improve Android Boot Time With Read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gleT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出している．ブート時間短縮が必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現状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old Boot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かかる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uspend/Resum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機能もあるがスタンバイの電力消費があ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一般的なブート時間をまずは測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どうやって計測した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に追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くつか非効率な部分を発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主には，パッケージスキャンとファイルアクセスルーチンの時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使ってみ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使う理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ではな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がボトルネックになっているか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，と，パッケージスキャ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パッケージスキャンはシステム全体の起動時間の１０％を占めて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アプリを変更しなくて良いか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私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開発者だから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は詳しくな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他のプロダクトにも応用できるかもしれ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ブート中に要求される前に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 Dat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ページキャッシュに読み込んでお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削減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読み込み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空き時間に実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す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Total Data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及び 使え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サイクルの全体数は今回変えてい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ゴールは，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をなくすこ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より良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スケジューリングもなされ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するデータの決定方法が必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Minicor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いうソフトウェアを使っ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テスト環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ny Internet TV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.6.2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スケジューラー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F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ポイ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バックグラウンドで動い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と，パッケージスキャンの時間が短縮され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結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 in background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 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短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4.65%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改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ケジューラはほとんど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プロセス優先度の変更は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 Walk Through the Anrdoid St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Aleksander “Sasa” Gargenta (Marakan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，具体的にソースコード上の場所まで示しながら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Distributio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の違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1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etc/passwd, /etc/fstab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あるのは，ドライバモデルなど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 Lev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層，プロセス・メモリ管理，共有ライブラリ，ネットワークスタッ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inder IP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xposed via /dev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time info at /proc/misc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bind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binder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sh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dev/ashme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し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a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経由でファイルを共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/ash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sh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p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ndroid_p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ake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android/pow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wakelock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source.android.com/porting/power_managem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 (cont.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 Walk Through the Anrdoid Stack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続き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rtc/alar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android_alarm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ow Memory Kill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misc/lowmemorykiller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urity/lowme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優先度について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/module/lowmemorykiller/parameter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i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SD li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の変更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bitrary Android system-propertie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 Kernel Logger Drive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er/group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管理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serven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/etc/protocol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未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HAL (User-space Hardware Abstraction Lay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Native Daem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tem/bin/servicemanager, /system/bin/v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urface Flinger, Audio Fling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unction Libra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bWebCore/Webkit, V8, SQLite, OpenSSL, FreeType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ctivity Manager Service, Connectivity Manager Service, Additional Manager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どな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</a:t>
            </a: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(Embedded Linux Conference 201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組込み系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技術についての国際技術会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度ま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 Linux Forum (CELF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だったが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合併し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orkgrou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な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テナー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技術者をはじめ，世界の組込みメーカー系企業の技術者が多数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2011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7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早期割引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者：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名で非常に盛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より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前からでは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本からは若干名の参加，今年度は韓国系企業の参加者増が目立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embedded-linux-conferen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linux.org/ELC_2011_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Android System Programming Tips and Tr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いろんな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Gig, Repo, Buil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 buil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ke -j6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ルチコア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よ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port USE_CCACH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boot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A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Debug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mes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gc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DM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m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cevie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x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ABS </a:t>
            </a: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(Android Builders Summit)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実装・搭載に注目した国際技術会議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アプリケーションにはフォーカスしていな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．今回が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回目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2011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PM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木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13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と共催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の同時申込みの場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者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共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単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android-builders-summit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vents.linuxfoundation.org/events/android-builders-summit/sli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The 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Dirk Hohndel (Int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スライド等はなく，口頭のみでの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の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ではな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様々なハードウェア環境で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作るための，テンプレートや基盤，ツールを提供す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Version 1.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リリースし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Becoming Part of the Linux Kernel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Arnd Bergmann (IBM, Lina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次の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での注目パートについての「思い」をレクチャ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C/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サーバ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純粋な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組込み，以外の分野での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利用の増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ree 3D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グラフィックス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ドライバのオープン化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要は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 Mainlin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コミットしよう」というこ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特にグラフィック関係のドライバのオープン化の話が最近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なってき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Identifying Embedded Real-Time Latency Issues: I-Cache and 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Frank Rowand (Sony Americ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系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関係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onferenc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毎年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,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回発表している人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MP ARM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の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ミスヒットによる性能劣化についての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じめに最大割り込み禁止時間を測定したところ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最大割り込み禁止時間を作っている一つの要因とわ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使用ツ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trac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rqsoff tracer (latency-format option enab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，ミスヒットとストール時間をみて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検討に使用してい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3.17-rt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9.6-rt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は課題抽出が目的で，改善はフォーカス外．ただし思いつく改善案を提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増や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のテストは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I-Cache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に対応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高速なメモリに配置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高速なメモリを実装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追加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ハードを変更して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有無での検討実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ほとんど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1 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補填される．ただし，一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も補填されない時がある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04:25:47Z</dcterms:created>
  <dc:creator/>
  <dc:description/>
  <dc:language>en-US</dc:language>
  <cp:lastModifiedBy>Shinsuke Kato</cp:lastModifiedBy>
  <dcterms:modified xsi:type="dcterms:W3CDTF">2011-05-20T03:47:58Z</dcterms:modified>
  <cp:revision>151</cp:revision>
  <dc:subject/>
  <dc:title>Embedded Linux Conference 2011 Android Builders Summit 2011 Report</dc:title>
</cp:coreProperties>
</file>